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7F8F-DAA2-4532-95D2-164BE1F1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9212-F4AE-4A0F-8B51-64ED31A1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B28-EEAF-4429-9A8C-E929505B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774C-239B-4012-9760-95F1B28C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BFACE-3E6B-4E62-939A-DC306501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91D5B-B29D-4109-B443-033FAA7B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B3367-32D8-47D7-98B1-754360FE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B4992-49A5-4B34-98C5-496E3315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814F8-0ECD-40FE-A23B-4D8A6C10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D83B9-B48B-4658-8239-B6E8C541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1B288-50F2-4366-9266-171CD95C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9E27-1DD2-48A0-BC53-E1D0589D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D38C7-9DAC-430E-905C-57BE908B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7DF62-FDA4-42AA-B219-5BF2401C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22E46-B6C6-46C7-B340-93B09170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63998-0A9C-4C41-8E15-70757B0B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FF868-0453-48A1-A36B-E578A606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8A73-7AD9-49C5-9CE4-DAF990D4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A321-27EF-446B-9BD8-EBA026CC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3669-B591-4334-8DFF-B8D5A729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AD4C-97ED-4CFA-941F-6CA816B5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3952-2CC3-4A05-A77B-A69CC744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7A15-8B38-4DD5-9297-3CF63318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0259-9C8D-4639-A43F-2D11D2AD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1520-C715-4D02-B123-FBACD78D7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9D9D-81B8-44C3-A79A-15600EC4E8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ower-technology.com/projects/bushehr-nuclear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appliedlanguage.com/flags_of_the_world/large_flag_of_iran.gif"/>
          <p:cNvPicPr/>
          <p:nvPr/>
        </p:nvPicPr>
        <p:blipFill>
          <a:blip r:embed="rId1"/>
          <a:stretch/>
        </p:blipFill>
        <p:spPr>
          <a:xfrm>
            <a:off x="0" y="-13644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ra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73600"/>
            <a:ext cx="64008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ael Cr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March 2010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"Iran."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 The World Fact Book: https://www.cia.gov/library/publications/the-world-factbook/geos/ir.html 22 March 2010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 March 2010 "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ew US-Russia nuclear deal 'soon' says Hillary Clinton ."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BC News: http://news.bbc.co.uk/2/hi/europe/8574838.stm (22 March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 March 2010 "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r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" Wikipedia: http://en.wikipedia.org/wiki/Iran (22 March 2010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http://www.oldcarpet.com/images/iran_map_good_new.gif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167652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Land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3809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an is located in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ddle E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borders the Gulf of Oman the Persian Gulf, and the  Capsian S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an is situated between Pakistan and Iraq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http://ict-club.schoolnet.ir/lovevoice/iran/image/damav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50956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rrain in Iran is rugged and mountainous rim with a large central bas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also has small not connected deserts and plains along both coa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mate/Veget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an’s climate is Arid/ Semi-Arid in the ce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climate is tropical along the Caspian 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http://upload.wikimedia.org/wikipedia/commons/thumb/d/d9/Damavand3.jpg/150px-Damavand3.jpg"/>
          <p:cNvPicPr/>
          <p:nvPr/>
        </p:nvPicPr>
        <p:blipFill>
          <a:blip r:embed="rId1"/>
          <a:stretch/>
        </p:blipFill>
        <p:spPr>
          <a:xfrm>
            <a:off x="2743200" y="3429000"/>
            <a:ext cx="3384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http://www.iran-press-service.com/ips/bm~pix/majles2~s600x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an’s Government type is a Theocratic Republ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means they have a Judicial, Executive, and Legislative Bran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gislative Branch is a unicameral assemb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ecutive Branch consists of the President and his Cabi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Busheh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istory and Current Even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US-Russia nuclear deal 'soon' says Hillary Clin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an’s nuclear plant which is being built by Russia should be operational this summ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an denies using nuclear technology for warhead production and claims to be using it strictly for peaceful energy produ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an’s exports consist of: petroleum, chemical products, petrochemical products, fruits, nuts, and carp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export partners are: China, Japan, India, South Korea, Turkey, and Ita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http://www.farsinet.com/toman/images/iri_20000rf.jpg"/>
          <p:cNvPicPr/>
          <p:nvPr/>
        </p:nvPicPr>
        <p:blipFill>
          <a:blip r:embed="rId1"/>
          <a:stretch/>
        </p:blipFill>
        <p:spPr>
          <a:xfrm>
            <a:off x="1523880" y="4267080"/>
            <a:ext cx="6096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http://www.opfblog.com/wp-content/uploads/2009/05/iran-culture-azad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ultu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official language of Iran is Persi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re are other lesser languages used such as Azeri and Kurdis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ven less popular languages include Arabic and Armeni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Photo: Gilded dome in Ir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laces to Visi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ghsh-e Jahan Square in Isfahan is a world heritage si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hhad is home to the site of the Imam Reza Shr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itadel of Persepolis is also a world heritage si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6:28:03Z</dcterms:created>
  <dc:creator>michaelrcrouse</dc:creator>
  <dc:description/>
  <dc:language>en-US</dc:language>
  <cp:lastModifiedBy>michaelrcrouse</cp:lastModifiedBy>
  <dcterms:modified xsi:type="dcterms:W3CDTF">2010-03-22T16:42:00Z</dcterms:modified>
  <cp:revision>27</cp:revision>
  <dc:subject/>
  <dc:title>Iran</dc:title>
</cp:coreProperties>
</file>